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63FE-5948-410F-B752-0590B52AE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FC43-A49D-4984-A4F1-D2715BF7E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-</a:t>
            </a:r>
            <a:fld id="{CBD1DB89-C7BC-451A-AE48-519F445E5CD1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 Introduction to Cost Terms and Purpo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638680" y="182880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Retail / Wholesale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5960" y="4190760"/>
            <a:ext cx="1898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2895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0574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37339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3124080"/>
            <a:ext cx="7617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441972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55627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49568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4197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 rot="16200000">
            <a:off x="1409400" y="3161520"/>
            <a:ext cx="152280" cy="129564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35053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53341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46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Manufacturing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211788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5105520"/>
            <a:ext cx="228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60020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k 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318456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2422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0226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209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3413160"/>
            <a:ext cx="5331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470844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5851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4724280"/>
            <a:ext cx="1828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72428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 rot="16200000">
            <a:off x="1066680" y="3809880"/>
            <a:ext cx="152640" cy="1981440"/>
          </a:xfrm>
          <a:custGeom>
            <a:avLst/>
            <a:gdLst>
              <a:gd name="textAreaLeft" fmla="*/ 97560 w 152640"/>
              <a:gd name="textAreaRight" fmla="*/ 153000 w 15264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37940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56228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150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10666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1752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2743200"/>
            <a:ext cx="2209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3352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2438280"/>
            <a:ext cx="0" cy="381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31240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828800" y="3505320"/>
            <a:ext cx="685800" cy="3045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any Meanings of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heme of this book is “different costs for different purposes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examples of “product cost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pricing and product empha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 all costs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acting with government agenc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exclude marketing costs and include only a portion of R&amp;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Stat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 GAAP, only manufacturing costs are included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lassifications of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 fun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&amp;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ment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8 - 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1447920"/>
            <a:ext cx="3886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 patter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ggregate or 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ts or expen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and Cost Obj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resource sacrificed or foregone to achieve a specific objectiv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 product, machine, service or process for which cost information is accumula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s can vary in size from an entire company, to a division or program within the company, or down to a singl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n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to a particular cost objective and can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a particular cost objective but cannot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re allocated to cost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441972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47056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4495680"/>
            <a:ext cx="1600200" cy="16178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971800" y="4495680"/>
            <a:ext cx="2819520" cy="533520"/>
            <a:chOff x="2971800" y="4495680"/>
            <a:chExt cx="2819520" cy="533520"/>
          </a:xfrm>
        </p:grpSpPr>
        <p:sp>
          <p:nvSpPr>
            <p:cNvPr id="58" name=""/>
            <p:cNvSpPr/>
            <p:nvPr/>
          </p:nvSpPr>
          <p:spPr>
            <a:xfrm>
              <a:off x="2971800" y="502920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5320" y="4495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Tra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971800" y="5638680"/>
            <a:ext cx="2819520" cy="459720"/>
            <a:chOff x="2971800" y="5638680"/>
            <a:chExt cx="2819520" cy="459720"/>
          </a:xfrm>
        </p:grpSpPr>
        <p:sp>
          <p:nvSpPr>
            <p:cNvPr id="62" name=""/>
            <p:cNvSpPr/>
            <p:nvPr/>
          </p:nvSpPr>
          <p:spPr>
            <a:xfrm>
              <a:off x="2971800" y="563868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05320" y="5638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Allocat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8576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Drivers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driver (cost generator or cost determin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which causes the amount of cost incurred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costs are driven by the number of products produced, labour costs, number of setups required, and the number of change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191120"/>
            <a:ext cx="80773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duction Programs focus on two thing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only value-added activitie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tly manage the use of cost drivers in those value-added activit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and Fixe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7150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constant per unit but changes in total in proportion to changes in the cost driv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(parts), fuel costs for a trucking compan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1676520"/>
            <a:ext cx="0" cy="1447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3124080"/>
            <a:ext cx="1752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1600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32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705720" y="1828800"/>
            <a:ext cx="1600200" cy="129528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04920" y="3886200"/>
            <a:ext cx="8839080" cy="2362320"/>
            <a:chOff x="304920" y="3886200"/>
            <a:chExt cx="8839080" cy="2362320"/>
          </a:xfrm>
        </p:grpSpPr>
        <p:grpSp>
          <p:nvGrpSpPr>
            <p:cNvPr id="76" name=""/>
            <p:cNvGrpSpPr/>
            <p:nvPr/>
          </p:nvGrpSpPr>
          <p:grpSpPr>
            <a:xfrm>
              <a:off x="6324480" y="4038480"/>
              <a:ext cx="2819520" cy="1982880"/>
              <a:chOff x="6324480" y="4038480"/>
              <a:chExt cx="2819520" cy="1982880"/>
            </a:xfrm>
          </p:grpSpPr>
          <p:sp>
            <p:nvSpPr>
              <p:cNvPr id="77" name=""/>
              <p:cNvSpPr/>
              <p:nvPr/>
            </p:nvSpPr>
            <p:spPr>
              <a:xfrm>
                <a:off x="6705720" y="4114800"/>
                <a:ext cx="0" cy="144792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705720" y="5562720"/>
                <a:ext cx="1752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24480" y="40384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$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848720" y="565308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Volume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05720" y="4876920"/>
                <a:ext cx="1523880" cy="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304920" y="3886200"/>
              <a:ext cx="57909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cost which does not change in total as volume changes but changes on a per-unit basis as the cost driver increases and decrease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mortization, insur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Range and Cost Behavio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100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range of the cost driver in which the a specific relationship between cost and driver is vali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4998960"/>
            <a:ext cx="2133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089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4998960"/>
            <a:ext cx="2133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5075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523880" y="2666880"/>
            <a:ext cx="2362320" cy="3507840"/>
            <a:chOff x="1523880" y="2666880"/>
            <a:chExt cx="2362320" cy="3507840"/>
          </a:xfrm>
        </p:grpSpPr>
        <p:sp>
          <p:nvSpPr>
            <p:cNvPr id="100" name=""/>
            <p:cNvSpPr/>
            <p:nvPr/>
          </p:nvSpPr>
          <p:spPr>
            <a:xfrm flipV="1">
              <a:off x="2057400" y="3779640"/>
              <a:ext cx="91440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05120" y="2666880"/>
              <a:ext cx="121896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3880" y="57150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943600" y="2666880"/>
            <a:ext cx="2438280" cy="3507840"/>
            <a:chOff x="5943600" y="2666880"/>
            <a:chExt cx="2438280" cy="3507840"/>
          </a:xfrm>
        </p:grpSpPr>
        <p:sp>
          <p:nvSpPr>
            <p:cNvPr id="104" name=""/>
            <p:cNvSpPr/>
            <p:nvPr/>
          </p:nvSpPr>
          <p:spPr>
            <a:xfrm>
              <a:off x="6553080" y="4084560"/>
              <a:ext cx="9907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43800" y="3627360"/>
              <a:ext cx="5335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43600" y="4465800"/>
              <a:ext cx="60948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00800" y="2666880"/>
              <a:ext cx="121932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19920" y="571500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Costs and Uni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 (or Average Cos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 / some number of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8 -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36232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erage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Total manufacturing costs / Number of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0,000 / 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41972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or average costs must be interpreted with cau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 volume increases, the unit or average cost falls as the fixed costs are spread over a larger number of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Inven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tail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590920"/>
            <a:ext cx="8382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 inventory (stock awaiting use in the manufacturing proc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k-in process inventory (partially completed goods on the shop floo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ished goods inventory (goods completed but not yet sold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 and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expensed on the income statement as they a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operating costs (excluding cost of goods sol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selling, general and administrativ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inventoried on the balance sheet and expensed only when the product or service is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invento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materials and labour (manufactu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 -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7:02:44Z</dcterms:created>
  <dc:creator>User</dc:creator>
  <dc:description/>
  <dc:language>en-US</dc:language>
  <cp:lastModifiedBy>John Moore</cp:lastModifiedBy>
  <cp:lastPrinted>1999-06-02T19:49:26Z</cp:lastPrinted>
  <dcterms:modified xsi:type="dcterms:W3CDTF">2003-03-22T13:37:54Z</dcterms:modified>
  <cp:revision>11</cp:revision>
  <dc:subject/>
  <dc:title>Costs and Cost Objects</dc:title>
</cp:coreProperties>
</file>